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F6A-8C51-45A9-9DB5-19B6A69D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86E-7CD2-463B-A453-36FA7974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D40-7010-4B39-9EAC-5BDD8277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05FB-A194-4706-9C20-9A20C997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C2E2-7863-4D66-B6F4-17A40B3F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ABC1-EDF3-46FE-9AC0-B6F0D56C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D5DF-C72B-4838-848B-0D3E6B49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756F-DF26-468C-A229-61EF008F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1F73-E5F7-46C2-A01E-64B895F5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22824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F626-82F9-412E-BC56-F0B00DF7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1000-9C97-40A4-912D-E02313A3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CDF-88B3-4B65-AAFD-EF3580EE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19E8-D10A-47B6-86AF-8FE17D0C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5DC3-FB7D-48F9-8C19-A50B3BC0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8766-C647-4951-9733-AE66E10C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EA61-4A43-499C-A1DF-ED892168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E80A-7E74-4F31-BF7A-AF25BBC4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D5B-1990-4810-B06E-6EA197C1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188-7B6A-4500-BB5D-A96F0004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183-6DCF-4B8A-9CA4-0749B2EB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33360" y="22824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8149-60D9-4865-B0DD-00715950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F6AA-322D-4C10-B793-C5829443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AD2C-A576-42DC-81A6-119AB1B9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5D79-D5F8-4D03-815D-79C9A690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7164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© N. Führes und R.-E. Hildebrandt, Neu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2767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6DAF-291F-4A3B-968C-542890FD18CF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e-nitiative-logogr2" descr=""/>
          <p:cNvPicPr/>
          <p:nvPr/>
        </p:nvPicPr>
        <p:blipFill>
          <a:blip r:embed="rId2"/>
          <a:stretch/>
        </p:blipFill>
        <p:spPr>
          <a:xfrm>
            <a:off x="671400" y="457200"/>
            <a:ext cx="1805040" cy="933480"/>
          </a:xfrm>
          <a:prstGeom prst="rect">
            <a:avLst/>
          </a:prstGeom>
          <a:ln w="0">
            <a:noFill/>
          </a:ln>
        </p:spPr>
      </p:pic>
      <p:pic>
        <p:nvPicPr>
          <p:cNvPr id="10" name="e-nitiative-logogr1" descr=""/>
          <p:cNvPicPr/>
          <p:nvPr/>
        </p:nvPicPr>
        <p:blipFill>
          <a:blip r:embed="rId3"/>
          <a:stretch/>
        </p:blipFill>
        <p:spPr>
          <a:xfrm>
            <a:off x="380880" y="457200"/>
            <a:ext cx="260640" cy="93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8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83F7-D324-4822-B703-E1C5E8BF7B9F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286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rgestellt v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05320"/>
            <a:ext cx="3809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Ralph-Erich Hildebrand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Oberstudienrat am Konrad-Adenauer-Gymnasium, Langenfe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3505320"/>
            <a:ext cx="30477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Norbert Führe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Lehrer an der Hauptschule an der Gnadentaler Allee, Neu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50734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eit Anfang 1998 Moderatoren für 'Schulen ans Netz',  jetzt  Moderatoren der e-nitiative.nr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mputerra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284004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usstatt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66880" y="2908440"/>
            <a:ext cx="518184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4827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ultimediaausstattung: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canner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Farbdrucker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W-Laserdrucker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CD-Brenner (Datensicherung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igitalkam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95720" y="1905120"/>
            <a:ext cx="1143360" cy="380880"/>
            <a:chOff x="7695720" y="1905120"/>
            <a:chExt cx="1143360" cy="380880"/>
          </a:xfrm>
        </p:grpSpPr>
        <p:sp>
          <p:nvSpPr>
            <p:cNvPr id="164" name=""/>
            <p:cNvSpPr/>
            <p:nvPr/>
          </p:nvSpPr>
          <p:spPr>
            <a:xfrm rot="10800000">
              <a:off x="7695720" y="1905120"/>
              <a:ext cx="1143000" cy="115920"/>
            </a:xfrm>
            <a:custGeom>
              <a:avLst/>
              <a:gdLst>
                <a:gd name="textAreaLeft" fmla="*/ 159120 w 1143000"/>
                <a:gd name="textAreaRight" fmla="*/ 983880 w 1143000"/>
                <a:gd name="textAreaTop" fmla="*/ 15840 h 115920"/>
                <a:gd name="textAreaBottom" fmla="*/ 100080 h 11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34" y="21600"/>
                  </a:lnTo>
                  <a:lnTo>
                    <a:pt x="2266" y="216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96080" y="2021040"/>
              <a:ext cx="1143000" cy="132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96080" y="2153520"/>
              <a:ext cx="1143000" cy="13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666880" y="5226120"/>
            <a:ext cx="51818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4827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oftware: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etriebssystem, Office-Paket,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icherungs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mputerra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281952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2895480"/>
            <a:ext cx="4800600" cy="18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Grundbildung Informatik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Arbeitsteiliger Unterricht ganzer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 Lerngruppen (im Fachunterricht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Informatikunterricht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Lehrerfortbild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695720" y="1905120"/>
            <a:ext cx="1143360" cy="380880"/>
            <a:chOff x="7695720" y="1905120"/>
            <a:chExt cx="1143360" cy="380880"/>
          </a:xfrm>
        </p:grpSpPr>
        <p:sp>
          <p:nvSpPr>
            <p:cNvPr id="173" name=""/>
            <p:cNvSpPr/>
            <p:nvPr/>
          </p:nvSpPr>
          <p:spPr>
            <a:xfrm rot="10800000">
              <a:off x="7695720" y="1905120"/>
              <a:ext cx="1143000" cy="115920"/>
            </a:xfrm>
            <a:custGeom>
              <a:avLst/>
              <a:gdLst>
                <a:gd name="textAreaLeft" fmla="*/ 159120 w 1143000"/>
                <a:gd name="textAreaRight" fmla="*/ 983880 w 1143000"/>
                <a:gd name="textAreaTop" fmla="*/ 15840 h 115920"/>
                <a:gd name="textAreaBottom" fmla="*/ 100080 h 11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34" y="21600"/>
                  </a:lnTo>
                  <a:lnTo>
                    <a:pt x="2266" y="216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96080" y="2021040"/>
              <a:ext cx="1143000" cy="132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96080" y="2153520"/>
              <a:ext cx="1143000" cy="13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mputerra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281952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cc66"/>
                </a:solidFill>
                <a:latin typeface="Times New Roman"/>
              </a:rPr>
              <a:t>Beding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2895480"/>
            <a:ext cx="4800600" cy="25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ystemadministrator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eauftragter für 'Neue Technologien'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Hoher Aufwand für Sicherheit und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atensicherung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orliegen eines Sicherungskonzeptes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orliegen eines pädagogischen Konzeptes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it Berichtzwa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537840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454720"/>
            <a:ext cx="4800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Ca. 30 000,- bis  60 000,- DM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je nach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örtlichen Gegebenheit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695720" y="1905120"/>
            <a:ext cx="1143360" cy="380880"/>
            <a:chOff x="7695720" y="1905120"/>
            <a:chExt cx="1143360" cy="380880"/>
          </a:xfrm>
        </p:grpSpPr>
        <p:sp>
          <p:nvSpPr>
            <p:cNvPr id="183" name=""/>
            <p:cNvSpPr/>
            <p:nvPr/>
          </p:nvSpPr>
          <p:spPr>
            <a:xfrm rot="10800000">
              <a:off x="7695720" y="1905120"/>
              <a:ext cx="1143000" cy="115920"/>
            </a:xfrm>
            <a:custGeom>
              <a:avLst/>
              <a:gdLst>
                <a:gd name="textAreaLeft" fmla="*/ 159120 w 1143000"/>
                <a:gd name="textAreaRight" fmla="*/ 983880 w 1143000"/>
                <a:gd name="textAreaTop" fmla="*/ 15840 h 115920"/>
                <a:gd name="textAreaBottom" fmla="*/ 100080 h 11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34" y="21600"/>
                  </a:lnTo>
                  <a:lnTo>
                    <a:pt x="2266" y="216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96080" y="2021040"/>
              <a:ext cx="1143000" cy="132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96080" y="2153520"/>
              <a:ext cx="1143000" cy="13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4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netzte Sch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7818480" y="1828440"/>
            <a:ext cx="898560" cy="106200"/>
          </a:xfrm>
          <a:custGeom>
            <a:avLst/>
            <a:gdLst>
              <a:gd name="textAreaLeft" fmla="*/ 133920 w 898560"/>
              <a:gd name="textAreaRight" fmla="*/ 764640 w 898560"/>
              <a:gd name="textAreaTop" fmla="*/ 15840 h 106200"/>
              <a:gd name="textAreaBottom" fmla="*/ 90360 h 10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48" y="21600"/>
                </a:lnTo>
                <a:lnTo>
                  <a:pt x="2652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7695720" y="1935000"/>
            <a:ext cx="1143000" cy="106560"/>
          </a:xfrm>
          <a:custGeom>
            <a:avLst/>
            <a:gdLst>
              <a:gd name="textAreaLeft" fmla="*/ 159120 w 1143000"/>
              <a:gd name="textAreaRight" fmla="*/ 983880 w 1143000"/>
              <a:gd name="textAreaTop" fmla="*/ 14760 h 106560"/>
              <a:gd name="textAreaBottom" fmla="*/ 91800 h 1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34" y="21600"/>
                </a:lnTo>
                <a:lnTo>
                  <a:pt x="2266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96080" y="2041560"/>
            <a:ext cx="1143000" cy="122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96080" y="2163600"/>
            <a:ext cx="1143000" cy="1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computer-lan" descr=""/>
          <p:cNvPicPr/>
          <p:nvPr/>
        </p:nvPicPr>
        <p:blipFill>
          <a:blip r:embed="rId1"/>
          <a:stretch/>
        </p:blipFill>
        <p:spPr>
          <a:xfrm>
            <a:off x="838080" y="2687760"/>
            <a:ext cx="1295640" cy="1274760"/>
          </a:xfrm>
          <a:prstGeom prst="rect">
            <a:avLst/>
          </a:prstGeom>
          <a:ln w="0">
            <a:noFill/>
          </a:ln>
        </p:spPr>
      </p:pic>
      <p:pic>
        <p:nvPicPr>
          <p:cNvPr id="193" name="computer-lan" descr=""/>
          <p:cNvPicPr/>
          <p:nvPr/>
        </p:nvPicPr>
        <p:blipFill>
          <a:blip r:embed="rId2"/>
          <a:stretch/>
        </p:blipFill>
        <p:spPr>
          <a:xfrm>
            <a:off x="2286000" y="2687760"/>
            <a:ext cx="1295280" cy="1274760"/>
          </a:xfrm>
          <a:prstGeom prst="rect">
            <a:avLst/>
          </a:prstGeom>
          <a:ln w="0">
            <a:noFill/>
          </a:ln>
        </p:spPr>
      </p:pic>
      <p:pic>
        <p:nvPicPr>
          <p:cNvPr id="194" name="computer-lan" descr=""/>
          <p:cNvPicPr/>
          <p:nvPr/>
        </p:nvPicPr>
        <p:blipFill>
          <a:blip r:embed="rId3"/>
          <a:stretch/>
        </p:blipFill>
        <p:spPr>
          <a:xfrm>
            <a:off x="3733920" y="2687760"/>
            <a:ext cx="1295280" cy="1274760"/>
          </a:xfrm>
          <a:prstGeom prst="rect">
            <a:avLst/>
          </a:prstGeom>
          <a:ln w="0">
            <a:noFill/>
          </a:ln>
        </p:spPr>
      </p:pic>
      <p:pic>
        <p:nvPicPr>
          <p:cNvPr id="195" name="computer-lan" descr=""/>
          <p:cNvPicPr/>
          <p:nvPr/>
        </p:nvPicPr>
        <p:blipFill>
          <a:blip r:embed="rId4"/>
          <a:stretch/>
        </p:blipFill>
        <p:spPr>
          <a:xfrm>
            <a:off x="5181480" y="2687760"/>
            <a:ext cx="1295640" cy="1274760"/>
          </a:xfrm>
          <a:prstGeom prst="rect">
            <a:avLst/>
          </a:prstGeom>
          <a:ln w="0">
            <a:noFill/>
          </a:ln>
        </p:spPr>
      </p:pic>
      <p:pic>
        <p:nvPicPr>
          <p:cNvPr id="196" name="computer-lan" descr=""/>
          <p:cNvPicPr/>
          <p:nvPr/>
        </p:nvPicPr>
        <p:blipFill>
          <a:blip r:embed="rId5"/>
          <a:stretch/>
        </p:blipFill>
        <p:spPr>
          <a:xfrm>
            <a:off x="838080" y="4287960"/>
            <a:ext cx="1295640" cy="1274760"/>
          </a:xfrm>
          <a:prstGeom prst="rect">
            <a:avLst/>
          </a:prstGeom>
          <a:ln w="0">
            <a:noFill/>
          </a:ln>
        </p:spPr>
      </p:pic>
      <p:pic>
        <p:nvPicPr>
          <p:cNvPr id="197" name="computer-lan" descr=""/>
          <p:cNvPicPr/>
          <p:nvPr/>
        </p:nvPicPr>
        <p:blipFill>
          <a:blip r:embed="rId6"/>
          <a:stretch/>
        </p:blipFill>
        <p:spPr>
          <a:xfrm>
            <a:off x="2286000" y="4287960"/>
            <a:ext cx="1295280" cy="1274760"/>
          </a:xfrm>
          <a:prstGeom prst="rect">
            <a:avLst/>
          </a:prstGeom>
          <a:ln w="0">
            <a:noFill/>
          </a:ln>
        </p:spPr>
      </p:pic>
      <p:pic>
        <p:nvPicPr>
          <p:cNvPr id="198" name="computer-lan" descr=""/>
          <p:cNvPicPr/>
          <p:nvPr/>
        </p:nvPicPr>
        <p:blipFill>
          <a:blip r:embed="rId7"/>
          <a:stretch/>
        </p:blipFill>
        <p:spPr>
          <a:xfrm>
            <a:off x="3733920" y="4287960"/>
            <a:ext cx="1295280" cy="1274760"/>
          </a:xfrm>
          <a:prstGeom prst="rect">
            <a:avLst/>
          </a:prstGeom>
          <a:ln w="0">
            <a:noFill/>
          </a:ln>
        </p:spPr>
      </p:pic>
      <p:pic>
        <p:nvPicPr>
          <p:cNvPr id="199" name="computer-lan" descr=""/>
          <p:cNvPicPr/>
          <p:nvPr/>
        </p:nvPicPr>
        <p:blipFill>
          <a:blip r:embed="rId8"/>
          <a:stretch/>
        </p:blipFill>
        <p:spPr>
          <a:xfrm>
            <a:off x="5181480" y="4287960"/>
            <a:ext cx="1295640" cy="1274760"/>
          </a:xfrm>
          <a:prstGeom prst="rect">
            <a:avLst/>
          </a:prstGeom>
          <a:ln w="0">
            <a:noFill/>
          </a:ln>
        </p:spPr>
      </p:pic>
      <p:pic>
        <p:nvPicPr>
          <p:cNvPr id="200" name="internetanschluss" descr=""/>
          <p:cNvPicPr/>
          <p:nvPr/>
        </p:nvPicPr>
        <p:blipFill>
          <a:blip r:embed="rId9"/>
          <a:stretch/>
        </p:blipFill>
        <p:spPr>
          <a:xfrm>
            <a:off x="6477120" y="3657600"/>
            <a:ext cx="952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533160" y="2514600"/>
            <a:ext cx="6401160" cy="3352680"/>
            <a:chOff x="533160" y="2514600"/>
            <a:chExt cx="6401160" cy="3352680"/>
          </a:xfrm>
        </p:grpSpPr>
        <p:grpSp>
          <p:nvGrpSpPr>
            <p:cNvPr id="202" name=""/>
            <p:cNvGrpSpPr/>
            <p:nvPr/>
          </p:nvGrpSpPr>
          <p:grpSpPr>
            <a:xfrm>
              <a:off x="533160" y="2514600"/>
              <a:ext cx="5105520" cy="3352680"/>
              <a:chOff x="533160" y="2514600"/>
              <a:chExt cx="5105520" cy="3352680"/>
            </a:xfrm>
          </p:grpSpPr>
          <p:sp>
            <p:nvSpPr>
              <p:cNvPr id="203" name=""/>
              <p:cNvSpPr/>
              <p:nvPr/>
            </p:nvSpPr>
            <p:spPr>
              <a:xfrm flipV="1">
                <a:off x="5562720" y="5181120"/>
                <a:ext cx="0" cy="685800"/>
              </a:xfrm>
              <a:prstGeom prst="line">
                <a:avLst/>
              </a:prstGeom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533160" y="2514600"/>
                <a:ext cx="5105520" cy="3352680"/>
                <a:chOff x="533160" y="2514600"/>
                <a:chExt cx="5105520" cy="3352680"/>
              </a:xfrm>
            </p:grpSpPr>
            <p:sp>
              <p:nvSpPr>
                <p:cNvPr id="205" name=""/>
                <p:cNvSpPr/>
                <p:nvPr/>
              </p:nvSpPr>
              <p:spPr>
                <a:xfrm flipH="1">
                  <a:off x="533160" y="2514600"/>
                  <a:ext cx="5105160" cy="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33520" y="2514600"/>
                  <a:ext cx="0" cy="335268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533520" y="5867280"/>
                  <a:ext cx="5029200" cy="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638680" y="2514600"/>
                  <a:ext cx="0" cy="53352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43200" y="2514600"/>
                  <a:ext cx="0" cy="53352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91120" y="2514600"/>
                  <a:ext cx="0" cy="53352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295280" y="2514600"/>
                  <a:ext cx="0" cy="53352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1219320" y="5181120"/>
                  <a:ext cx="0" cy="68580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4114800" y="5181120"/>
                  <a:ext cx="0" cy="68580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V="1">
                  <a:off x="2666880" y="5181120"/>
                  <a:ext cx="0" cy="685800"/>
                </a:xfrm>
                <a:prstGeom prst="line">
                  <a:avLst/>
                </a:prstGeom>
                <a:ln w="93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5" name=""/>
            <p:cNvSpPr/>
            <p:nvPr/>
          </p:nvSpPr>
          <p:spPr>
            <a:xfrm>
              <a:off x="6095880" y="3581280"/>
              <a:ext cx="838440" cy="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34320" y="3581280"/>
              <a:ext cx="0" cy="7632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4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netzte Sch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281628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usstat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2892600"/>
            <a:ext cx="48006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ind. 1 bis 2 PC pro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ngeschlossenem Raum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ernetzung jedes angeschlossenen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Raums vorzugsweise über Kabel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ei Neubau/Sanierung Kabel einplanen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erver mit Serverbetriebssystem (Novell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oder Win NT/Win 2000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nternetzugang von jedem Rechner 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0800000">
            <a:off x="7818480" y="1828440"/>
            <a:ext cx="898560" cy="106200"/>
          </a:xfrm>
          <a:custGeom>
            <a:avLst/>
            <a:gdLst>
              <a:gd name="textAreaLeft" fmla="*/ 133920 w 898560"/>
              <a:gd name="textAreaRight" fmla="*/ 764640 w 898560"/>
              <a:gd name="textAreaTop" fmla="*/ 15840 h 106200"/>
              <a:gd name="textAreaBottom" fmla="*/ 90360 h 10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48" y="21600"/>
                </a:lnTo>
                <a:lnTo>
                  <a:pt x="2652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0800000">
            <a:off x="7695720" y="1935000"/>
            <a:ext cx="1143000" cy="106560"/>
          </a:xfrm>
          <a:custGeom>
            <a:avLst/>
            <a:gdLst>
              <a:gd name="textAreaLeft" fmla="*/ 159120 w 1143000"/>
              <a:gd name="textAreaRight" fmla="*/ 983880 w 1143000"/>
              <a:gd name="textAreaTop" fmla="*/ 14760 h 106560"/>
              <a:gd name="textAreaBottom" fmla="*/ 91800 h 1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34" y="21600"/>
                </a:lnTo>
                <a:lnTo>
                  <a:pt x="2266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2041560"/>
            <a:ext cx="1143000" cy="122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96080" y="2163600"/>
            <a:ext cx="1143000" cy="1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4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netzte Sch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287964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2955960"/>
            <a:ext cx="48006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insatz in jedem Fachunterricht im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Rahmen von Differenzierungsmaß-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nahmen durch Schülergruppen, u. a.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uch Nutzung von Lernprogramme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inzelnutzung mit Sonderaufgaben als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uftrag einer Gruppe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inzelnutzung z. B. für Bewerbungen etc.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Nutzung durch den Lehrer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Nutzung mit Beamer zur Demonstratio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95720" y="1828800"/>
            <a:ext cx="1143360" cy="456840"/>
            <a:chOff x="7695720" y="1828800"/>
            <a:chExt cx="1143360" cy="456840"/>
          </a:xfrm>
        </p:grpSpPr>
        <p:sp>
          <p:nvSpPr>
            <p:cNvPr id="230" name=""/>
            <p:cNvSpPr/>
            <p:nvPr/>
          </p:nvSpPr>
          <p:spPr>
            <a:xfrm rot="10800000">
              <a:off x="7818120" y="1828800"/>
              <a:ext cx="898200" cy="106560"/>
            </a:xfrm>
            <a:custGeom>
              <a:avLst/>
              <a:gdLst>
                <a:gd name="textAreaLeft" fmla="*/ 133920 w 898200"/>
                <a:gd name="textAreaRight" fmla="*/ 764280 w 898200"/>
                <a:gd name="textAreaTop" fmla="*/ 15840 h 106560"/>
                <a:gd name="textAreaBottom" fmla="*/ 90720 h 1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48" y="21600"/>
                  </a:lnTo>
                  <a:lnTo>
                    <a:pt x="2652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0800000">
              <a:off x="7695720" y="1935360"/>
              <a:ext cx="1143000" cy="106560"/>
            </a:xfrm>
            <a:custGeom>
              <a:avLst/>
              <a:gdLst>
                <a:gd name="textAreaLeft" fmla="*/ 159120 w 1143000"/>
                <a:gd name="textAreaRight" fmla="*/ 983880 w 1143000"/>
                <a:gd name="textAreaTop" fmla="*/ 14760 h 106560"/>
                <a:gd name="textAreaBottom" fmla="*/ 91800 h 1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34" y="21600"/>
                  </a:lnTo>
                  <a:lnTo>
                    <a:pt x="2266" y="216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96080" y="2042280"/>
              <a:ext cx="1143000" cy="121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96080" y="2163960"/>
              <a:ext cx="1143000" cy="12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4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netzte Sch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284796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cc66"/>
                </a:solidFill>
                <a:latin typeface="Times New Roman"/>
              </a:rPr>
              <a:t>Beding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2908440"/>
            <a:ext cx="4800600" cy="21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ystemadministrator mit hohe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Kenntnissen und hohem Aufwand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ufsicht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Diebstahlschutz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Schutz vor Zerstörung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695720" y="1828800"/>
            <a:ext cx="1143360" cy="456840"/>
            <a:chOff x="7695720" y="1828800"/>
            <a:chExt cx="1143360" cy="456840"/>
          </a:xfrm>
        </p:grpSpPr>
        <p:sp>
          <p:nvSpPr>
            <p:cNvPr id="239" name=""/>
            <p:cNvSpPr/>
            <p:nvPr/>
          </p:nvSpPr>
          <p:spPr>
            <a:xfrm rot="10800000">
              <a:off x="7818120" y="1828800"/>
              <a:ext cx="898200" cy="106560"/>
            </a:xfrm>
            <a:custGeom>
              <a:avLst/>
              <a:gdLst>
                <a:gd name="textAreaLeft" fmla="*/ 133920 w 898200"/>
                <a:gd name="textAreaRight" fmla="*/ 764280 w 898200"/>
                <a:gd name="textAreaTop" fmla="*/ 15840 h 106560"/>
                <a:gd name="textAreaBottom" fmla="*/ 90720 h 1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48" y="21600"/>
                  </a:lnTo>
                  <a:lnTo>
                    <a:pt x="2652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0800000">
              <a:off x="7695720" y="1935360"/>
              <a:ext cx="1143000" cy="106560"/>
            </a:xfrm>
            <a:custGeom>
              <a:avLst/>
              <a:gdLst>
                <a:gd name="textAreaLeft" fmla="*/ 159120 w 1143000"/>
                <a:gd name="textAreaRight" fmla="*/ 983880 w 1143000"/>
                <a:gd name="textAreaTop" fmla="*/ 14760 h 106560"/>
                <a:gd name="textAreaBottom" fmla="*/ 91800 h 1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34" y="21600"/>
                  </a:lnTo>
                  <a:lnTo>
                    <a:pt x="2266" y="216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6080" y="2042280"/>
              <a:ext cx="1143000" cy="121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96080" y="2163960"/>
              <a:ext cx="1143000" cy="12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4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netzte Sch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508968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95480" y="5119560"/>
            <a:ext cx="48006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nicht pauschal kalkulierba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95720" y="1828800"/>
            <a:ext cx="1143360" cy="456840"/>
            <a:chOff x="7695720" y="1828800"/>
            <a:chExt cx="1143360" cy="456840"/>
          </a:xfrm>
        </p:grpSpPr>
        <p:sp>
          <p:nvSpPr>
            <p:cNvPr id="248" name=""/>
            <p:cNvSpPr/>
            <p:nvPr/>
          </p:nvSpPr>
          <p:spPr>
            <a:xfrm rot="10800000">
              <a:off x="7818120" y="1828800"/>
              <a:ext cx="898200" cy="106560"/>
            </a:xfrm>
            <a:custGeom>
              <a:avLst/>
              <a:gdLst>
                <a:gd name="textAreaLeft" fmla="*/ 133920 w 898200"/>
                <a:gd name="textAreaRight" fmla="*/ 764280 w 898200"/>
                <a:gd name="textAreaTop" fmla="*/ 15840 h 106560"/>
                <a:gd name="textAreaBottom" fmla="*/ 90720 h 1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48" y="21600"/>
                  </a:lnTo>
                  <a:lnTo>
                    <a:pt x="2652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0800000">
              <a:off x="7695720" y="1935360"/>
              <a:ext cx="1143000" cy="106560"/>
            </a:xfrm>
            <a:custGeom>
              <a:avLst/>
              <a:gdLst>
                <a:gd name="textAreaLeft" fmla="*/ 159120 w 1143000"/>
                <a:gd name="textAreaRight" fmla="*/ 983880 w 1143000"/>
                <a:gd name="textAreaTop" fmla="*/ 14760 h 106560"/>
                <a:gd name="textAreaBottom" fmla="*/ 91800 h 1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34" y="21600"/>
                  </a:lnTo>
                  <a:lnTo>
                    <a:pt x="2266" y="216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96080" y="2042280"/>
              <a:ext cx="1143000" cy="121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96080" y="2163960"/>
              <a:ext cx="1143000" cy="12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838080" y="281952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cc66"/>
                </a:solidFill>
                <a:latin typeface="Times New Roman"/>
              </a:rPr>
              <a:t>Beding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2895480"/>
            <a:ext cx="4800600" cy="18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eauftragter für 'Neue Technologien'‚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Hoher Aufwand für Sicherheit und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atensicherung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orliegen eines Sicherungskonzeptes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orliegen eines pädagogischen Konzep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 Netzwerkanschluss </a:t>
            </a:r>
            <a:br>
              <a:rPr sz="3200"/>
            </a:b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 an jedem Arbeitsplatz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7920" y="1563840"/>
            <a:ext cx="679680" cy="312480"/>
          </a:xfrm>
          <a:prstGeom prst="triangle">
            <a:avLst>
              <a:gd name="adj" fmla="val 5000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0800000">
            <a:off x="7818480" y="1875960"/>
            <a:ext cx="898560" cy="96840"/>
          </a:xfrm>
          <a:custGeom>
            <a:avLst/>
            <a:gdLst>
              <a:gd name="textAreaLeft" fmla="*/ 133920 w 898560"/>
              <a:gd name="textAreaRight" fmla="*/ 764640 w 898560"/>
              <a:gd name="textAreaTop" fmla="*/ 14400 h 96840"/>
              <a:gd name="textAreaBottom" fmla="*/ 82440 h 9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48" y="21600"/>
                </a:lnTo>
                <a:lnTo>
                  <a:pt x="2652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0800000">
            <a:off x="7695720" y="1972800"/>
            <a:ext cx="1143000" cy="95400"/>
          </a:xfrm>
          <a:custGeom>
            <a:avLst/>
            <a:gdLst>
              <a:gd name="textAreaLeft" fmla="*/ 159120 w 1143000"/>
              <a:gd name="textAreaRight" fmla="*/ 983880 w 1143000"/>
              <a:gd name="textAreaTop" fmla="*/ 13320 h 95400"/>
              <a:gd name="textAreaBottom" fmla="*/ 82080 h 9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34" y="21600"/>
                </a:lnTo>
                <a:lnTo>
                  <a:pt x="2266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96080" y="2068560"/>
            <a:ext cx="1143000" cy="108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96080" y="2176560"/>
            <a:ext cx="1143000" cy="1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laptop2" descr=""/>
          <p:cNvPicPr/>
          <p:nvPr/>
        </p:nvPicPr>
        <p:blipFill>
          <a:blip r:embed="rId1"/>
          <a:stretch/>
        </p:blipFill>
        <p:spPr>
          <a:xfrm>
            <a:off x="3581280" y="3048120"/>
            <a:ext cx="3200400" cy="3024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flipV="1">
            <a:off x="1447920" y="2895120"/>
            <a:ext cx="0" cy="228600"/>
          </a:xfrm>
          <a:prstGeom prst="line">
            <a:avLst/>
          </a:prstGeom>
          <a:ln w="19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2895480"/>
            <a:ext cx="2514600" cy="0"/>
          </a:xfrm>
          <a:prstGeom prst="line">
            <a:avLst/>
          </a:prstGeom>
          <a:ln w="19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2895480"/>
            <a:ext cx="0" cy="205740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4952880"/>
            <a:ext cx="228600" cy="0"/>
          </a:xfrm>
          <a:prstGeom prst="line">
            <a:avLst/>
          </a:prstGeom>
          <a:ln w="19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internetanschluss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1319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 Netzwerkanschluss </a:t>
            </a:r>
            <a:br>
              <a:rPr sz="3200"/>
            </a:b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 an jedem Arbeitsplatz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293832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cc66"/>
                </a:solidFill>
                <a:latin typeface="Times New Roman"/>
              </a:rPr>
              <a:t>Proble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2998800"/>
            <a:ext cx="480060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Finanzierung der Computer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 (evtl. Privatgeräte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Finanzierung der Anschlüsse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Gibt es genügend medienkompetente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 Kolleginnen und Kollegen?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Sinnvolle pädagogische Konzepte für ei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 solches Modell müssen von der jeweilige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 Schule entwickelt und vorgelegt werden.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......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27920" y="1563840"/>
            <a:ext cx="679680" cy="312480"/>
          </a:xfrm>
          <a:prstGeom prst="triangle">
            <a:avLst>
              <a:gd name="adj" fmla="val 5000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0800000">
            <a:off x="7818480" y="1875960"/>
            <a:ext cx="898560" cy="96840"/>
          </a:xfrm>
          <a:custGeom>
            <a:avLst/>
            <a:gdLst>
              <a:gd name="textAreaLeft" fmla="*/ 133920 w 898560"/>
              <a:gd name="textAreaRight" fmla="*/ 764640 w 898560"/>
              <a:gd name="textAreaTop" fmla="*/ 14400 h 96840"/>
              <a:gd name="textAreaBottom" fmla="*/ 82440 h 9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48" y="21600"/>
                </a:lnTo>
                <a:lnTo>
                  <a:pt x="2652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0800000">
            <a:off x="7695720" y="1972800"/>
            <a:ext cx="1143000" cy="95400"/>
          </a:xfrm>
          <a:custGeom>
            <a:avLst/>
            <a:gdLst>
              <a:gd name="textAreaLeft" fmla="*/ 159120 w 1143000"/>
              <a:gd name="textAreaRight" fmla="*/ 983880 w 1143000"/>
              <a:gd name="textAreaTop" fmla="*/ 13320 h 95400"/>
              <a:gd name="textAreaBottom" fmla="*/ 82080 h 9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34" y="21600"/>
                </a:lnTo>
                <a:lnTo>
                  <a:pt x="2266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96080" y="2068560"/>
            <a:ext cx="1143000" cy="108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2176560"/>
            <a:ext cx="1143000" cy="1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62320" y="2057400"/>
            <a:ext cx="3809880" cy="1752480"/>
          </a:xfrm>
          <a:prstGeom prst="triangle">
            <a:avLst>
              <a:gd name="adj" fmla="val 5000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1752480" y="3809880"/>
            <a:ext cx="5029200" cy="533520"/>
          </a:xfrm>
          <a:custGeom>
            <a:avLst/>
            <a:gdLst>
              <a:gd name="textAreaLeft" fmla="*/ 750240 w 5029200"/>
              <a:gd name="textAreaRight" fmla="*/ 4278960 w 5029200"/>
              <a:gd name="textAreaTop" fmla="*/ 79560 h 533520"/>
              <a:gd name="textAreaBottom" fmla="*/ 453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48" y="21600"/>
                </a:lnTo>
                <a:lnTo>
                  <a:pt x="2652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1066680" y="4343040"/>
            <a:ext cx="6400800" cy="533520"/>
          </a:xfrm>
          <a:custGeom>
            <a:avLst/>
            <a:gdLst>
              <a:gd name="textAreaLeft" fmla="*/ 891360 w 6400800"/>
              <a:gd name="textAreaRight" fmla="*/ 5509440 w 6400800"/>
              <a:gd name="textAreaTop" fmla="*/ 74160 h 533520"/>
              <a:gd name="textAreaBottom" fmla="*/ 459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34" y="21600"/>
                </a:lnTo>
                <a:lnTo>
                  <a:pt x="2266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876920"/>
            <a:ext cx="64008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486400"/>
            <a:ext cx="6400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562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zelplatz-PC im Lehrerzim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4952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dienecke (Klassenraum, Bibliothek, o.ä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4343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mputerraum (Computerräu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3809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netzte Sch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30178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tzwerkanschlus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 jedem Arbeitspla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3352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ielen Dank für Ihre Aufmerksamke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Einzelplatz-PC im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hrerzim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1compute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3292200" cy="3292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95480" y="3413160"/>
            <a:ext cx="4800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ultimediafähig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ISDN-Anschluss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Farbdrucker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Scanner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Office-Paket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Lexik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352680"/>
            <a:ext cx="5867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usstatt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21337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Einzelplatz-PC im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hrerzim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3373560"/>
            <a:ext cx="5867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3427560"/>
            <a:ext cx="51055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3200" indent="-292320">
              <a:lnSpc>
                <a:spcPct val="115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ndividuelle Nutzung und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rweiterung der Medienkompetenz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er Lehrerinnen und Lehr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4800600"/>
            <a:ext cx="5410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st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861080"/>
            <a:ext cx="5105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3200" indent="-292320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3500,- bis 4000,- 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21337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enecke (Klasse, Bibliothek 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computer-lan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3463920" cy="34070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281952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usstatt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2908440"/>
            <a:ext cx="4800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1-4 PC‘s mit Drucker,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ggf. Scanner etc.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ernetzung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Routing-Software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SDN-Anschluss oder Netzwerkanschluss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n den Lehrerzimmer-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1981080"/>
            <a:ext cx="114300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21337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enecke (Klasse, Bibliothek 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81952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2895480"/>
            <a:ext cx="4800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inzelne Schüler können (im Rahme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nnerer Differenzierung) Sonderaufträge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earbeite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rbeit kleiner Schülergruppen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ehrere Lehrer können parallel arbeite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vtl. schulinterne Fortbild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696080" y="1981080"/>
            <a:ext cx="1143000" cy="304560"/>
            <a:chOff x="7696080" y="1981080"/>
            <a:chExt cx="1143000" cy="304560"/>
          </a:xfrm>
        </p:grpSpPr>
        <p:sp>
          <p:nvSpPr>
            <p:cNvPr id="131" name=""/>
            <p:cNvSpPr/>
            <p:nvPr/>
          </p:nvSpPr>
          <p:spPr>
            <a:xfrm>
              <a:off x="7696080" y="1981080"/>
              <a:ext cx="1143000" cy="152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96080" y="2133360"/>
              <a:ext cx="11430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enecke (Klasse, Bibliothek 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284796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cc66"/>
                </a:solidFill>
                <a:latin typeface="Times New Roman"/>
              </a:rPr>
              <a:t>Bedingung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2908440"/>
            <a:ext cx="4800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ystemverantwortliche(r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icherheitskonzept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oftware-Lizenzen für Betriebssystem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und Anwendungsprogrammen in ent-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prechender Stückzahl (Office-Paket, ...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iebstahlschutz und Aufsic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696080" y="1981080"/>
            <a:ext cx="1143000" cy="304560"/>
            <a:chOff x="7696080" y="1981080"/>
            <a:chExt cx="1143000" cy="304560"/>
          </a:xfrm>
        </p:grpSpPr>
        <p:sp>
          <p:nvSpPr>
            <p:cNvPr id="138" name=""/>
            <p:cNvSpPr/>
            <p:nvPr/>
          </p:nvSpPr>
          <p:spPr>
            <a:xfrm>
              <a:off x="7696080" y="1981080"/>
              <a:ext cx="1143000" cy="152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96080" y="2133360"/>
              <a:ext cx="11430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133720" y="22860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enecke (Klasse, Bibliothek 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83356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cc66"/>
                </a:solidFill>
                <a:latin typeface="Times New Roman"/>
              </a:rPr>
              <a:t>Bedingung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11336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st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189320"/>
            <a:ext cx="5333760" cy="18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Ca. 3 000,- DM pro PC-Arbeitsplatz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(+ evtl. Kosten für Vernetzung und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erlegung von Stromanschlüssen und zusätzlichen Geräten wie Drucker und Scann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894040"/>
            <a:ext cx="5029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Pädagogisches Konzept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erichtzwang  in festzulegenden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ntervall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696080" y="1981080"/>
            <a:ext cx="1143000" cy="304560"/>
            <a:chOff x="7696080" y="1981080"/>
            <a:chExt cx="1143000" cy="304560"/>
          </a:xfrm>
        </p:grpSpPr>
        <p:sp>
          <p:nvSpPr>
            <p:cNvPr id="148" name=""/>
            <p:cNvSpPr/>
            <p:nvPr/>
          </p:nvSpPr>
          <p:spPr>
            <a:xfrm>
              <a:off x="7696080" y="1981080"/>
              <a:ext cx="1143000" cy="152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96080" y="2133360"/>
              <a:ext cx="11430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133720" y="22860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Computerraum-que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6400800" cy="32781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echnische Möglichkeiten für die Ausstattung von Schulen mit neuen Medi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mputerra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862360"/>
            <a:ext cx="5943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usstatt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2938320"/>
            <a:ext cx="518184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10 bis 15 PC‘s (Richtwert: halb so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iel Rechner wie durchschnittliche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Klassenfrequenz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1 Lehrerrechner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1 Server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ernetzung mit Internetzugang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7695720" y="1905120"/>
            <a:ext cx="1143000" cy="115920"/>
          </a:xfrm>
          <a:custGeom>
            <a:avLst/>
            <a:gdLst>
              <a:gd name="textAreaLeft" fmla="*/ 159120 w 1143000"/>
              <a:gd name="textAreaRight" fmla="*/ 983880 w 1143000"/>
              <a:gd name="textAreaTop" fmla="*/ 15840 h 115920"/>
              <a:gd name="textAreaBottom" fmla="*/ 100080 h 1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34" y="21600"/>
                </a:lnTo>
                <a:lnTo>
                  <a:pt x="2266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2021040"/>
            <a:ext cx="1143000" cy="1332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2154240"/>
            <a:ext cx="114300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12:00:52Z</dcterms:created>
  <dc:creator>Norbert Führes</dc:creator>
  <dc:description/>
  <dc:language>en-US</dc:language>
  <cp:lastModifiedBy>Norbert Führes</cp:lastModifiedBy>
  <dcterms:modified xsi:type="dcterms:W3CDTF">2000-08-24T14:05:40Z</dcterms:modified>
  <cp:revision>54</cp:revision>
  <dc:subject/>
  <dc:title>Technische Möglichkeiten für die Ausstattung von Schulen mit neuen Medien</dc:title>
</cp:coreProperties>
</file>